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1DB-E103-42D6-8655-63045B3B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185-2502-4554-976D-0C3B2360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58C-7AE6-4F64-B45C-2499B90A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8F8-09B1-4B99-A7B3-056138B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7CA9B-89C4-4A88-A0D7-0D73AB78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ABFBF-FFC5-4357-B6F5-CC9312E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BD7C-3F44-465B-90DF-3DEC47E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CBB1-7D1F-4416-BA07-115F39F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E703C-D66E-4345-AF52-5261107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60A95-BED1-4DB2-BEE1-7625938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F1F25-63B8-4003-BB96-95E5A587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A53-6CB5-4E1E-BCEF-86D67C2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D8AC-8968-47C6-B062-712AC05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5F6F3-5532-4FEB-BF64-1095C1A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1192A-28D0-4051-B795-6A4344E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C90CB-26A5-4D2F-8917-37D5D7A9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DED9A-231A-4337-920A-C9A8CBC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E5C-FC09-4275-A192-4ACDC34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856-C8FF-43D4-88E4-0D704C7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B00-8018-4943-A987-A93C90B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F6F-AD1B-476F-A2B6-EF059EB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4C7-22FA-4E3A-BCB7-34F8A4C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AA4-7392-43F1-B099-5093A3A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0DD-E84F-4903-8C24-ECE7CBD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185-2F4D-44E3-B970-B82A954D58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7C5-FC98-41E2-A591-DA7226E36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5360" y="1044720"/>
            <a:ext cx="95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BEAST” of Loch 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209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832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581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9624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624852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62320" y="2590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e in Sco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04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14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2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14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4576680" cy="278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32400" y="2125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2057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7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688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79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263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08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07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41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0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88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2859120"/>
            <a:ext cx="4343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9200" y="171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401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59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725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83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040" y="171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44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2843280"/>
            <a:ext cx="403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800" y="1447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988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4120" y="1447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52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3496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264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2640" y="1413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4876920" cy="289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1981080"/>
            <a:ext cx="53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yptos is the Greek word for hidden or secr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oologist is the Greek term for someone who studies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4920" y="5975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 Dinsd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6808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58920" y="2174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444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936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1:44Z</dcterms:modified>
  <cp:revision>16</cp:revision>
  <dc:subject/>
  <dc:title>No Slide Title</dc:title>
</cp:coreProperties>
</file>